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C63C-1F00-4B3F-9E3D-9FB3BEA9F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134B-AD8C-4051-867B-ACF3F7CBD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0119-A91E-4489-AB2B-BD3E74A9B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2F1F-7662-42B8-A884-1D674140C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DC65-8720-493C-9CB5-27B89DC0F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1B94-8A8A-4490-93DA-41923E5BE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347E-52CE-40CB-B1CC-2CEF21C6C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A95E-A9E3-4AA8-86DB-CDF1760CB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8858-CDBD-419F-A09A-0B3757DFD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291D-38CF-483B-905B-9748C6668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8FF2-901D-40A7-8EFD-F27D37B12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A6CA-5F24-4A63-AC74-FAD6F458B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DF077-3BE4-4C19-939D-6F6284D4414C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5/11/14) </a:t>
            </a:r>
            <a:r>
              <a:rPr b="0" lang="zh-TW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3720" y="145800"/>
            <a:ext cx="722628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GB" sz="3200" spc="-1" strike="noStrike">
                <a:solidFill>
                  <a:srgbClr val="3a0e66"/>
                </a:solidFill>
                <a:latin typeface="Minion"/>
              </a:rPr>
              <a:t>Jerry - VF Acceptance Test 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279360" y="4660920"/>
            <a:ext cx="871236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82520" y="4587840"/>
            <a:ext cx="180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24000" y="4587840"/>
            <a:ext cx="180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344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64636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66920" y="4587840"/>
            <a:ext cx="180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8784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21020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73076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4988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7224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92800" y="4587840"/>
            <a:ext cx="180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1372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33752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97400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494560" y="4587840"/>
            <a:ext cx="180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6052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1081080" y="980640"/>
            <a:ext cx="144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601640" y="980640"/>
            <a:ext cx="180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2124000" y="980640"/>
            <a:ext cx="180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646360" y="980640"/>
            <a:ext cx="144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166920" y="980640"/>
            <a:ext cx="180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3686040" y="980640"/>
            <a:ext cx="180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560520" y="980640"/>
            <a:ext cx="144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329600" y="1662120"/>
            <a:ext cx="503280" cy="0"/>
          </a:xfrm>
          <a:prstGeom prst="line">
            <a:avLst/>
          </a:prstGeom>
          <a:ln w="38160">
            <a:solidFill>
              <a:srgbClr val="80008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132680" y="4322880"/>
            <a:ext cx="16286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135920" y="1079640"/>
            <a:ext cx="16286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VF fin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ccep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827840" y="1590840"/>
            <a:ext cx="130320" cy="144360"/>
          </a:xfrm>
          <a:prstGeom prst="diamond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770200" y="1662120"/>
            <a:ext cx="4502160" cy="1440"/>
          </a:xfrm>
          <a:prstGeom prst="line">
            <a:avLst/>
          </a:prstGeom>
          <a:ln w="38160">
            <a:solidFill>
              <a:srgbClr val="80008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05080" y="1676520"/>
            <a:ext cx="27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cceptance tests with all OpCo’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1663560"/>
            <a:ext cx="2085840" cy="1800"/>
          </a:xfrm>
          <a:prstGeom prst="line">
            <a:avLst/>
          </a:prstGeom>
          <a:ln w="38160">
            <a:solidFill>
              <a:srgbClr val="800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270920" y="1590840"/>
            <a:ext cx="131760" cy="144360"/>
          </a:xfrm>
          <a:prstGeom prst="diamond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553160" y="1770120"/>
            <a:ext cx="1173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oduction start in Ch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11360" y="1316160"/>
            <a:ext cx="195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CF / TA s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54200" y="1590840"/>
            <a:ext cx="130320" cy="144360"/>
          </a:xfrm>
          <a:prstGeom prst="diamond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4360" y="1305000"/>
            <a:ext cx="28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e-tests with 2-3 dedicated OpCo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4732200" y="980640"/>
            <a:ext cx="2088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5246640" y="980640"/>
            <a:ext cx="648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 flipV="1">
            <a:off x="5776560" y="981000"/>
            <a:ext cx="34920" cy="5616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6296040" y="980640"/>
            <a:ext cx="936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7376760" y="980640"/>
            <a:ext cx="2556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4189320" y="981000"/>
            <a:ext cx="22320" cy="5616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7978680" y="980640"/>
            <a:ext cx="180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68480" y="2678040"/>
            <a:ext cx="1584360" cy="144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2637000" y="2673000"/>
            <a:ext cx="4743360" cy="146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391520" y="2665440"/>
            <a:ext cx="574560" cy="1652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55720" y="2833560"/>
            <a:ext cx="195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e-t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440080" y="2871720"/>
            <a:ext cx="390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cceptance t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048440" y="2798640"/>
            <a:ext cx="11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inal 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043840" y="2162160"/>
            <a:ext cx="1440" cy="262908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38920" y="2295360"/>
            <a:ext cx="136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~1 w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40080" y="2311560"/>
            <a:ext cx="390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9 wee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28800" y="2311560"/>
            <a:ext cx="195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3 wee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06760" y="4838760"/>
            <a:ext cx="187200" cy="234720"/>
          </a:xfrm>
          <a:prstGeom prst="triangle">
            <a:avLst>
              <a:gd name="adj" fmla="val 57144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41120" y="4876920"/>
            <a:ext cx="144108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Test Phase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359080" y="5289480"/>
            <a:ext cx="187200" cy="23508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56000" y="5340240"/>
            <a:ext cx="12240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B2 S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8488440" y="980640"/>
            <a:ext cx="144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6823080" y="980640"/>
            <a:ext cx="936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219640" y="4838760"/>
            <a:ext cx="187560" cy="234720"/>
          </a:xfrm>
          <a:prstGeom prst="triangle">
            <a:avLst>
              <a:gd name="adj" fmla="val 50000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446080" y="4857840"/>
            <a:ext cx="144108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Test Phase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340760" y="4838760"/>
            <a:ext cx="187200" cy="234720"/>
          </a:xfrm>
          <a:prstGeom prst="triangle">
            <a:avLst>
              <a:gd name="adj" fmla="val 50000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575480" y="4863960"/>
            <a:ext cx="115128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final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941480" y="5813280"/>
            <a:ext cx="216000" cy="20340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31760" y="4838760"/>
            <a:ext cx="187560" cy="234720"/>
          </a:xfrm>
          <a:prstGeom prst="triangle">
            <a:avLst>
              <a:gd name="adj" fmla="val 57144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97080" y="4869000"/>
            <a:ext cx="108432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Pre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4554360" y="5813280"/>
            <a:ext cx="216000" cy="20340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646320" y="5813280"/>
            <a:ext cx="215640" cy="20340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700520" y="5810400"/>
            <a:ext cx="12240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W Drop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077920" y="5815080"/>
            <a:ext cx="12240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W Drop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794640" y="5800680"/>
            <a:ext cx="12240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W Drop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020000" y="4508640"/>
            <a:ext cx="1569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43640" y="4508640"/>
            <a:ext cx="1587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523280" y="4484520"/>
            <a:ext cx="15696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099280" y="4484520"/>
            <a:ext cx="1573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2280" y="4481640"/>
            <a:ext cx="1569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´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71560" y="4481640"/>
            <a:ext cx="1573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95560" y="4481640"/>
            <a:ext cx="1584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76640" y="4481640"/>
            <a:ext cx="1569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38600" y="4481640"/>
            <a:ext cx="1569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55920" y="4481640"/>
            <a:ext cx="1573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910120" y="4484520"/>
            <a:ext cx="15876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405400" y="4484520"/>
            <a:ext cx="15876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46600" y="4492800"/>
            <a:ext cx="1569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22600" y="4492800"/>
            <a:ext cx="1573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932360" y="4492800"/>
            <a:ext cx="1573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6280" y="5267160"/>
            <a:ext cx="187200" cy="235080"/>
          </a:xfrm>
          <a:prstGeom prst="triangle">
            <a:avLst>
              <a:gd name="adj" fmla="val 57144"/>
            </a:avLst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04760" y="5330880"/>
            <a:ext cx="12240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B1+ S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95280" y="5803920"/>
            <a:ext cx="216000" cy="20304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46200" y="5805360"/>
            <a:ext cx="12240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W Drop Pre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16200000">
            <a:off x="394200" y="4143960"/>
            <a:ext cx="9216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4360" y="3213000"/>
            <a:ext cx="3585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2b5d"/>
                </a:solidFill>
                <a:latin typeface="Arial"/>
              </a:rPr>
              <a:t>S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821920" y="3157560"/>
            <a:ext cx="2448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2b5d"/>
                </a:solidFill>
                <a:latin typeface="Arial"/>
              </a:rPr>
              <a:t>S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537400" y="4479840"/>
            <a:ext cx="1573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767800" y="2157480"/>
            <a:ext cx="1440" cy="2628720"/>
          </a:xfrm>
          <a:prstGeom prst="line">
            <a:avLst/>
          </a:prstGeom>
          <a:ln w="2844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234280" y="2550960"/>
            <a:ext cx="117324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elive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x Bocho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Monika Reiss</cp:lastModifiedBy>
  <dcterms:modified xsi:type="dcterms:W3CDTF">2006-01-23T11:35:13Z</dcterms:modified>
  <cp:revision>56</cp:revision>
  <dc:subject/>
  <dc:title>PowerPoint 簡報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64040715</vt:r8>
  </property>
  <property fmtid="{D5CDD505-2E9C-101B-9397-08002B2CF9AE}" pid="3" name="_AuthorEmail">
    <vt:lpwstr>Monika.Reiss@BenQ.com</vt:lpwstr>
  </property>
  <property fmtid="{D5CDD505-2E9C-101B-9397-08002B2CF9AE}" pid="4" name="_AuthorEmailDisplayName">
    <vt:lpwstr>Monika Reiss</vt:lpwstr>
  </property>
  <property fmtid="{D5CDD505-2E9C-101B-9397-08002B2CF9AE}" pid="5" name="_EmailSubject">
    <vt:lpwstr>Arjen's address for VF approval process</vt:lpwstr>
  </property>
</Properties>
</file>